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09D-81C9-43A7-A893-B471C1F8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F01-FD9E-4477-B65A-A37C9269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289-BCEA-43BF-874E-C7DE0493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940-7909-44DC-AB57-139E03FD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FC60-BD3F-4572-ACA8-04F67EC3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8C3B-C1CA-4CE9-BEC4-FB1525DE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A947-6D99-402A-8838-071D08BA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23FC-1E6E-412C-AC4B-61812656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D856-5811-4A13-91BB-DBA607E9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091E-C6FA-48CA-AED0-342EC7D4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94B3-1FB1-4290-BB97-0C3D0A51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31A-1593-475A-B8CE-5E5A5CDC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03AE-9587-42A3-A10A-387101EF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542F-E8AF-4D8E-9053-2EF0A10D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5BFD-E7C8-4543-9199-6C083FB3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FE43-09D1-4CC3-A55D-CD27C920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36AA-E73C-49B9-B41E-86DD62C0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55639-3DA3-4C3B-846B-E6FBAFE6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3DD9-6E60-4108-8B54-ABD248B3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4EB0-BDB6-4A25-8524-1E6323C4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D7082-67D2-4BF3-8802-C5F4B541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B09D4-835C-48CF-8472-DB48417A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EDF-C433-4BDE-870D-DA8302B7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8C57-4B2E-4BB4-8208-D8043C59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B2148-FB7A-4877-96D3-D86E4ED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1323-F714-41F0-B2B7-0DD80C7C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7B92-C4B6-4B12-AF26-666C19B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B439-EEAF-4798-9D65-F18B9FA9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7A4E-BED1-4833-96DF-54809D2D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87020-6A40-4EEA-85FC-9C526B97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3755C-1C65-45F4-B8AD-7278E32C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6811F-0DFA-432A-ADDA-20767B96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04611-B482-4D6F-AF40-92ABE9C3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C50-E53B-43D2-9DEF-675AA5B4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05E0-90BF-4F36-8F24-94D4A229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279E-25A9-4F87-8E5E-5805F633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9FD57-D0DE-41E1-8D5C-F844674B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9CC2-E5A8-4F05-B963-7BE400C4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FA700-DAA5-4A3C-AB28-5E7419B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8205-6887-4D83-9178-FDF9FA30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126A3-70F5-4D25-85A1-F8ECB966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9E2D-355D-4CF5-84E4-65402CE5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78FBB-5A13-4EAC-B59D-ED2591DB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963-6D28-4D7B-9DA8-3B4DE51E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DBC-9C1B-4362-97A0-E270CF3C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482-5228-4B73-9E06-9EE88E82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92C-A8C0-4EFD-8ADF-85A60A4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6B7-9C2A-42A8-AAD6-9C5BC741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4D9A2-3457-49F8-93CB-9111F75850BE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84341-213D-4DE2-9378-168FE4A2F82D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F5DD1-DD0A-43EB-8D85-636CB91141A2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62BF9-2E8C-40AD-B280-5C5BEE72DFBB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382680"/>
            <a:ext cx="9677520" cy="48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Краевое совещание 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«Школьные библиотеки образовательных организаций Пермского края: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 от Концепции к реальности»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Анкетирование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школьных библиотек Пермского края-2019</a:t>
            </a:r>
            <a:br>
              <a:rPr sz="5400"/>
            </a:br>
            <a:r>
              <a:rPr b="0" lang="ru-RU" sz="5400" spc="-1" strike="noStrike">
                <a:solidFill>
                  <a:srgbClr val="236292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236292"/>
                </a:solidFill>
                <a:latin typeface="Trebuchet MS"/>
              </a:rPr>
              <a:t>Итоги начального этапа мониторингового исследования                          школьных библиотекарей образовательных организаций Пермского края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227200"/>
            <a:ext cx="8878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Мальщукова И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Пермь, 25 марта 2019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4261"/>
                </a:solidFill>
                <a:latin typeface="Trebuchet MS"/>
              </a:rPr>
              <a:t>Повышение квалификац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880" y="1350720"/>
            <a:ext cx="10785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Педагог - библиотекарь в современной школе" в ГБОУ СОП "Пермский краевой колледж искусств и культуры" 72 час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Создание интерактивного плаката с помощью сервисов Web 2.0МАУ ДПО «Центр научно-методического обеспечения.г.Лысьва2 16 часов 201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Педагог-библиотекарь: информационно-коммуникационные технологии библиотечной среды 72 ча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МООК "Ментальные карты-инструмент когнитивного развития", май, 2018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Организация обучения детей  с ОВЗ и детей-инвалидов в общеобразовательной организации» (72 часа) 2018 год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Инновационная деятельность школьной библиотеки в современном коммуникационном пространстве" 72 ч. 2017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Н ПОО "МАНО" "Теория обучения и воспитания в условиях реализации ФГОС", 520 часов, 2017 г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Современные подходы к библиотечно-информационному обеспечению реализации ФГОС общеобразовательной организацией", 36часов, 20.07.2017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34 участника  анкетирования на проходили курсы повышения квалификации за последние 3 года (10%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фессиональных совещаниях, конференциях, НКП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33 участника анкетирования отрицательно ответили или оставили вопрос без ответ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вебинар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460520"/>
            <a:ext cx="8596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0 отрицательных ответа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ыступл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ольше 50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Публикаци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6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ектах и конкурс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Готовы ли ШБ к трансформированию в ШИБЦ?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Выводы напрашиваются сами…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лагодарю заведующих школьными библиотеками(ШИБЦ, медиатеками), педагогов-библиотекарей, библиотекарей и методистов районов в сборе необходимой для анализа информ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63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Цель первого этапа обследования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77960"/>
            <a:ext cx="8596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анализировать состав профессионального сообщества школьных библиотек образовательных организаций Пермского края (кадровый,  должностной, статус школьной библиотеки, профессиональная занятость, достижения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ветить на вопросы: Сколько нас? Кто будет реализовывать Концепцию? Каким мы обладаем потенциалом? Участвуют ли библиотекари в жизни профессионального сообщества России, Пермского края? Готовы ли библиотекари меняться? Происходят ли изменения в жизни ШБ в связи с принятием Концепци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4093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опросы анке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8280" y="1133280"/>
            <a:ext cx="10794960" cy="55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. ФИ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2. Контактные данные (тел., эл. Поч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3.Территория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4. Образовательное учреждение ( по Уставу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5. Статус школьной библиотеки (ШБ, ШИБЦ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6. Ваша должность (библиотекарь, педагог-библиотекарь, зав. ШБ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7.Время работы (Ставка; о,5; 0,25;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8. Общий стаж работы и в данной должности (через /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9. Последняя аттестация (указать, когда и на какую категорию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0. Повышение квалификации (за 3 последних года, с указанием курсов и часов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1. Участие в профессиональных совещаниях, конференциях, НКП (за 3 последних год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2. Участие в вебинарах (за последний год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3. Ваши выступления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4. Ваши публикации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5. Участие в проектах, конкурсах; грантополучение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4261"/>
                </a:solidFill>
                <a:latin typeface="Trebuchet MS"/>
              </a:rPr>
              <a:t>Территории: 20 (130 анкет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880" y="1541160"/>
            <a:ext cx="4183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лександров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ерезов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рещагин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бахин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янский р-н - 1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льинский р-н – 1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ишерт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с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чевский р-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Кунгур – 1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541160"/>
            <a:ext cx="4184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нгур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Лысьва -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рмский р-н –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Пермь -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винский райо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йковский р-н – 1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ст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Чернушка –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рлин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сьвенкий р-н -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тус школьной библиотек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880" y="2160360"/>
            <a:ext cx="6827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ШИБЦ – 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чный медиацентр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 - медиатека - 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ШБ – остальные участники анкетирования – 12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3" name="Объект 6"/>
          <p:cNvGraphicFramePr/>
          <p:nvPr/>
        </p:nvGraphicFramePr>
        <p:xfrm>
          <a:off x="7454880" y="1204920"/>
          <a:ext cx="385596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1204920"/>
                    <a:ext cx="38559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Должность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7720"/>
            <a:ext cx="8596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Зав. библиотекой - 25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едагог-библиотекарь – 4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рь – 49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ителя – совместители- 1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очие - 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Время рабо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77880" y="1630440"/>
          <a:ext cx="8596440" cy="311760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287360"/>
                <a:gridCol w="1577880"/>
                <a:gridCol w="1433520"/>
                <a:gridCol w="1432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 -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-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ж работы</a:t>
            </a:r>
            <a:br>
              <a:rPr sz="3600"/>
            </a:b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77880" y="2160720"/>
          <a:ext cx="8596440" cy="215244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587240"/>
                <a:gridCol w="1278000"/>
                <a:gridCol w="1433520"/>
                <a:gridCol w="1432080"/>
              </a:tblGrid>
              <a:tr h="10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Аттест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Только в 26 анкетах указана информация о прохождении аттестации (первая и высшая категория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6:55:22Z</dcterms:created>
  <dc:creator>Пользователь</dc:creator>
  <dc:description/>
  <dc:language>en-US</dc:language>
  <cp:lastModifiedBy>Пользователь</cp:lastModifiedBy>
  <dcterms:modified xsi:type="dcterms:W3CDTF">2019-03-24T15:04:14Z</dcterms:modified>
  <cp:revision>21</cp:revision>
  <dc:subject/>
  <dc:title>Краевое совещание  «Школьные библиотеки образовательных организаций Пермского края:  от Концепции к реальности»   Анкетирование  школьных библиотекарей Пермского края-2019</dc:title>
</cp:coreProperties>
</file>